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B33-9BCA-45F9-9DB5-A4223193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361-F52F-4894-B93D-72BB593A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E54-8124-4490-BC90-B2C8AFEE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728-0C5C-4399-BBBE-4F8CF11A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78B-E0D7-45B7-AC56-C52E812E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4A3-0B8C-4776-B42A-26D2711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1F6-0EE2-4E72-85BD-84CB7E1E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0F3-3C75-4D4A-9237-5AA2400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BCC-4D45-4C34-B901-7ACA4B6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08F-722A-4863-856D-3BF78C8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AEC-F4D8-44F6-B50F-6D77CCF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F80-1DBD-4EAB-9377-9143779B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836F-CCF0-49AD-949A-68E0B1AD9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pfranklin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47200">
            <a:off x="1905120" y="456840"/>
            <a:ext cx="5562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Black"/>
              </a:rPr>
              <a:t>Cool Do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59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87200">
            <a:off x="5492160" y="4191120"/>
            <a:ext cx="1600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Sa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9/2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Computer #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952880"/>
            <a:ext cx="4038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The W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4/2010, WWW.FREE PLAY 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63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ol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n Ice cream shaped like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Dog was invented in 1999 Franklin painted it and ma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Dog was Pa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 The Vice President ordered cool dog for the opening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a lived in Concord Mass, where devoted to improving the Cool Dog in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Peter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lin grew up in a creative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1952 in Darien, Connecti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arned an MBA in 1975 with long term goal of running his own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Franklin Graduated in Pharmaceu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 sales totaled for $400 million dollar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lker"/>
          <p:cNvPicPr/>
          <p:nvPr/>
        </p:nvPicPr>
        <p:blipFill>
          <a:blip r:embed="rId1"/>
          <a:srcRect l="0" t="-6095" r="34908" b="0"/>
          <a:stretch/>
        </p:blipFill>
        <p:spPr>
          <a:xfrm>
            <a:off x="2590920" y="1752480"/>
            <a:ext cx="5257800" cy="264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Walker"/>
          <p:cNvPicPr/>
          <p:nvPr/>
        </p:nvPicPr>
        <p:blipFill>
          <a:blip r:embed="rId2"/>
          <a:srcRect l="67339" t="3609" r="3958" b="9636"/>
          <a:stretch/>
        </p:blipFill>
        <p:spPr>
          <a:xfrm>
            <a:off x="380880" y="22860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724280"/>
            <a:ext cx="5638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ol D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frankl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8:07:14Z</dcterms:created>
  <dc:creator>Jack Hille School</dc:creator>
  <dc:description/>
  <dc:language>en-US</dc:language>
  <cp:lastModifiedBy>install</cp:lastModifiedBy>
  <dcterms:modified xsi:type="dcterms:W3CDTF">2010-10-14T17:37:15Z</dcterms:modified>
  <cp:revision>4</cp:revision>
  <dc:subject/>
  <dc:title>Slide 1</dc:title>
</cp:coreProperties>
</file>